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E783-F7E4-4D90-9949-3D1660EE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7484-1441-4A10-BBBF-6C6B8710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1647-F1BF-487D-A6FD-FB18D42CD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EFC0-8562-4878-A693-CE757387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48D2-122A-47E2-BE1B-BC22783E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D401-7528-4891-B846-1F21F295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F1EC-A01D-49FE-87B0-727F70FA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08B8-7718-43A8-AD43-53381B22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4585-503C-496B-8BF2-7EB758E8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5B72-3001-4C4B-AB6A-913A96D4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C7E2-AAE0-419B-9926-79641CDC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F914-0636-4CCA-98ED-0C0E942C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C683-A03C-4A4D-9FFB-8FF87F022252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Users\USUARIO\Pictures\Publiteca\AGOSTO-SEPTIEMBRE\PLANTILLAS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6"/>
          <p:cNvSpPr txBox="1"/>
          <p:nvPr/>
        </p:nvSpPr>
        <p:spPr>
          <a:xfrm>
            <a:off x="2571840" y="2571840"/>
            <a:ext cx="421488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GRACIA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Users\USUARIO\Pictures\Publiteca\AGOSTO-SEPTIEMBRE\PLANTILLAS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Users\USUARIO\Pictures\Publiteca\AGOSTO-SEPTIEMBRE\PLANTILLAS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6"/>
          <p:cNvSpPr txBox="1"/>
          <p:nvPr/>
        </p:nvSpPr>
        <p:spPr>
          <a:xfrm>
            <a:off x="2286000" y="2071800"/>
            <a:ext cx="485784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esupuesto básico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2010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642960" y="138564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El Presupuesto de Ingresos y Gastos de la Entidad para la Vigencia Fiscal 2010 guarda concordancia con el Plan Nacional de Desarrollo Ambiental, el Plan de Gestión Ambiental Regional y el Plan de Acción Ajustado 2007-2011 de la Entidad</a:t>
            </a:r>
            <a:r>
              <a:rPr b="0" lang="es-CO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474840" y="379440"/>
            <a:ext cx="302544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gres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1187280" y="1285200"/>
            <a:ext cx="6661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El Presupuesto de Ingresos de la Entidad para la Vigencia Fiscal 2010 asciende a la sum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$ 33.599.463 miles distribuidos así:</a:t>
            </a:r>
            <a:r>
              <a:rPr b="0" lang="es-CO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CO" sz="7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285920" y="2643120"/>
          <a:ext cx="6626160" cy="2683080"/>
        </p:xfrm>
        <a:graphic>
          <a:graphicData uri="http://schemas.openxmlformats.org/drawingml/2006/table">
            <a:tbl>
              <a:tblPr/>
              <a:tblGrid>
                <a:gridCol w="3241800"/>
                <a:gridCol w="2303280"/>
                <a:gridCol w="10810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[miles de $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bre tasa Ambi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195.9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,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a de Bienes y Servic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2.1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ortes Otras Entida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895.6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56.4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dimien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9.2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a de Act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INGRESOS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599.4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13"/>
          <p:cNvSpPr txBox="1"/>
          <p:nvPr/>
        </p:nvSpPr>
        <p:spPr>
          <a:xfrm>
            <a:off x="474840" y="450720"/>
            <a:ext cx="3025440" cy="4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gres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graphicFrame>
        <p:nvGraphicFramePr>
          <p:cNvPr id="58" name="Object 16"/>
          <p:cNvGraphicFramePr/>
          <p:nvPr/>
        </p:nvGraphicFramePr>
        <p:xfrm>
          <a:off x="1785960" y="1285920"/>
          <a:ext cx="5616720" cy="4541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9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5960" y="1285920"/>
                    <a:ext cx="5616720" cy="45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Rectangle 1"/>
          <p:cNvSpPr/>
          <p:nvPr/>
        </p:nvSpPr>
        <p:spPr>
          <a:xfrm>
            <a:off x="5865840" y="128520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 Rounded MT Bold"/>
              </a:rPr>
              <a:t>Venta de Activos</a:t>
            </a:r>
            <a:r>
              <a:rPr b="0" lang="es-CO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"/>
          <p:cNvSpPr/>
          <p:nvPr/>
        </p:nvSpPr>
        <p:spPr>
          <a:xfrm>
            <a:off x="322200" y="393804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Aportes Otras Entidades</a:t>
            </a:r>
            <a:r>
              <a:rPr b="0" lang="es-CO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"/>
          <p:cNvSpPr/>
          <p:nvPr/>
        </p:nvSpPr>
        <p:spPr>
          <a:xfrm>
            <a:off x="393840" y="2640960"/>
            <a:ext cx="156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Otros Ingresos</a:t>
            </a:r>
            <a:r>
              <a:rPr b="0" lang="es-CO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2008080" y="1561320"/>
            <a:ext cx="15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 Rounded MT Bold"/>
              </a:rPr>
              <a:t>Rendimientos Financieros</a:t>
            </a:r>
            <a:r>
              <a:rPr b="0" lang="es-CO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1185840" y="5233320"/>
            <a:ext cx="15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Venta de Bienes y Servicios</a:t>
            </a:r>
            <a:r>
              <a:rPr b="0" lang="es-CO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6946920" y="357768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 Rounded MT Bold"/>
              </a:rPr>
              <a:t>Sobre tasa Ambi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476280" y="423720"/>
            <a:ext cx="302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esupuesto de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Funcionamiento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468360" y="146916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$ 8.235.534 miles distribuidos así:</a:t>
            </a:r>
            <a:r>
              <a:rPr b="0" lang="es-CO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CO" sz="9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2"/>
          <a:srcRect l="9394" t="5194" r="9370" b="8066"/>
          <a:stretch/>
        </p:blipFill>
        <p:spPr>
          <a:xfrm>
            <a:off x="2143080" y="2071800"/>
            <a:ext cx="5022720" cy="32194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"/>
          <p:cNvSpPr/>
          <p:nvPr/>
        </p:nvSpPr>
        <p:spPr>
          <a:xfrm rot="192000">
            <a:off x="2340000" y="3016080"/>
            <a:ext cx="150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 Rounded MT Bold"/>
              </a:rPr>
              <a:t>Transferencias</a:t>
            </a:r>
            <a:r>
              <a:rPr b="0" lang="es-CO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2843280" y="42771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 Rounded MT Bold"/>
              </a:rPr>
              <a:t>Gastos Generales</a:t>
            </a:r>
            <a:r>
              <a:rPr b="0" lang="es-CO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"/>
          <p:cNvSpPr/>
          <p:nvPr/>
        </p:nvSpPr>
        <p:spPr>
          <a:xfrm>
            <a:off x="4788000" y="371988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astos de Personal</a:t>
            </a:r>
            <a:r>
              <a:rPr b="0" lang="es-CO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"/>
          <p:cNvSpPr/>
          <p:nvPr/>
        </p:nvSpPr>
        <p:spPr>
          <a:xfrm>
            <a:off x="2143080" y="5357880"/>
            <a:ext cx="5357880" cy="246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La distribución porcentual es con base en que Funcionamiento es el 100%.</a:t>
            </a:r>
            <a:r>
              <a:rPr b="0" lang="es-CO" sz="9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100"/>
          <p:cNvSpPr txBox="1"/>
          <p:nvPr/>
        </p:nvSpPr>
        <p:spPr>
          <a:xfrm>
            <a:off x="1690560" y="352440"/>
            <a:ext cx="302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esupuesto de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versión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071720" y="1214280"/>
          <a:ext cx="4286160" cy="4286520"/>
        </p:xfrm>
        <a:graphic>
          <a:graphicData uri="http://schemas.openxmlformats.org/drawingml/2006/table">
            <a:tbl>
              <a:tblPr/>
              <a:tblGrid>
                <a:gridCol w="2286000"/>
                <a:gridCol w="1214280"/>
                <a:gridCol w="785880"/>
              </a:tblGrid>
              <a:tr h="50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 [miles de peso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ficación Ambiental en la Gestión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1.9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ión Integrada del Recurso Hídr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52.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ocimiento, Conservación y Uso Sostenible de los RN y la Biodivers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51.8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ción de Procesos Productivos Competitivos y Sosteni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6.9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ención y Control de la Degradación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549.0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talecimiento del SINA para la Gobernabilidad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87.5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Invers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559.6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5 Gráfico" descr=""/>
          <p:cNvPicPr/>
          <p:nvPr/>
        </p:nvPicPr>
        <p:blipFill>
          <a:blip r:embed="rId2"/>
          <a:stretch/>
        </p:blipFill>
        <p:spPr>
          <a:xfrm>
            <a:off x="5425920" y="1206360"/>
            <a:ext cx="351000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9:22:23Z</dcterms:created>
  <dc:creator>USUARIO</dc:creator>
  <dc:description/>
  <dc:language>en-US</dc:language>
  <cp:lastModifiedBy>USUARIO</cp:lastModifiedBy>
  <dcterms:modified xsi:type="dcterms:W3CDTF">2010-04-22T22:58:18Z</dcterms:modified>
  <cp:revision>4</cp:revision>
  <dc:subject/>
  <dc:title>Diapositiva 1</dc:title>
</cp:coreProperties>
</file>